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F11-3472-4FDB-A492-9B1F9088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F1A-55F5-4F62-9FE0-6506104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D5938-AA68-4CE5-AD8A-50480028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CA7CF-1EFF-4038-85E9-597EAAB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3993F-56DE-422F-A7AA-B7378250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D3267-E4D4-4754-A800-0527FA6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3D931-649A-4AF2-8951-AC5C644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539FE-9699-4AB9-88B6-77E8CAA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4A1D9-6019-46A5-AFB8-A484ABB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DB73D-09E5-46CF-8972-A1F1A476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6E9C4-D6D9-4F71-854C-E0E482EC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3E5-427A-4FD9-9F9B-30F06854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B08-A5A1-4272-97F2-87B4D0A0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238-0598-4DFC-A2C5-E96541D9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5FA-B03A-4C74-80D3-5DFF943C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54EC9-072A-4E51-AEB9-64715EC6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29E9F-5626-4928-A615-BE8771E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20A65-1867-442F-842B-CD4597EF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9AB-B8A2-48D8-BE05-61A6ACA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AF7B7-693F-4070-85B5-EE689A8F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67D83-33E9-4EF7-BE00-341D2DA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FC690-F6F0-4103-A3E4-0C45B29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F547B-5963-4812-A589-802A65D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81F3F-9414-493C-9343-E84A964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F1476-B34E-44F9-AD9D-D59507E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6A073-7CAD-420D-9576-A6A020C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399EE-47F9-4432-BAA6-56A2685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CCFC0-C31B-4EFF-A5AC-C7214B38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1E958-E722-4F1C-8EE4-2600EB86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EA3-708D-4BCF-9310-1C6AE88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2E775-3DBE-4A78-B087-1D605B9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B3E0DC-BDBD-4A50-8C84-FC0549B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3BCA5-6EE9-4719-942E-E4B5879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7633AA-C9B5-4819-B852-933647E3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FBADF-6634-49FB-BBFD-E0AA84D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7A9EC-9953-4DC6-92E2-AAB7578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BA855-9D73-4655-9E69-61209AA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A04A1-E039-441F-813D-85D960F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BBE9F-EF69-44ED-8D76-A9F05BC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0B030-BB7E-4BDB-B326-303C5D0B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63C-F337-4B9B-8932-3D87A79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9EE7F-A73A-423B-A8A0-DEC75DF5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73FA1-D585-4376-9040-C9AEF1A0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0C1EF-0135-444A-A7C9-7D78ABC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CBDB6-E144-4218-8483-9F3F6B3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2F3B2-6C38-4AC0-94C8-95267979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097709-E2E8-42A3-A0D6-89E8C2EE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F94A08-82F2-49FB-8578-B0475B9F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EFF5E7-2E86-429D-9683-EA55729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26D9C-53C5-40E4-906E-A10BEAF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9B8517-8815-4724-8944-CC8DF19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0BF-1F98-432D-A61C-CC92CB6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D89EF-8015-4375-9E69-7E105E1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EBDBE-4A2F-4C33-95D5-C292453D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69A020-912E-4AE8-8A57-4E4AC75E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22995-2E2A-4FC2-95C9-A3273EC7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F51315-05F5-4F3E-816E-B646DAE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BE6089-9DEC-42B9-B8C3-2EE9975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0BFD7-F893-43A2-860C-AC12F20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91089D-F028-416D-AF4D-974F1AC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6CF5F-8370-44A4-9DEB-4F8B2201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AEBD6-E9F9-4DAB-9C19-6364363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139-00CB-41B2-902A-E62B551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1EDB0-39D1-4236-BADC-F7FA843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7704E-FB13-4FAA-887E-C0B5892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134CF6-5AED-401E-BFA2-4D8C359E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22221-B688-4542-8D7E-086909F7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376F7-961B-4D37-845C-B82122A5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118AAF-7615-49B5-8EC5-AB1AF616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64B60-FE53-4467-AFC3-9C860E1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0DE6EC-0609-4058-AF61-555B93F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B53798-9275-480D-96A1-70028A95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B282F2-5CCB-4C12-AB85-109789E3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C63-6A09-4BCB-9D05-E09A285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02026-3534-44CD-A5FB-971435EA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189C3F-EDEC-4159-B23F-09D79ACD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92CBBB-882E-4846-9B89-1BC9674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53FD7-AB81-4405-BBB1-076E829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4ED04-D5F8-4EA4-9EB6-12E83801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3DC9D-FF35-49D5-9B98-F58F85FE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074BA-B3D0-4AAD-851B-6538D25F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3AF8E-B156-4798-861C-62420CD0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7E33E-E7D6-4421-8D78-A93D041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240F0-7161-4D6B-A545-7FAEDB4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57BB4-0469-4694-B76A-CAA0DA54BF2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7A9D8-5E97-4B68-BF72-E6EB3AC9CE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B13CF-6986-4315-A6FA-5C24C8E512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936EA-712B-4501-890D-53CF7BD39E1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8362E-A2B3-4E78-B603-C2C97AB8DF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51D01-552D-45C6-BA4F-F5751B2EA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12DA0-AFCD-4DE7-A4F7-22D332E062F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462D-6D2E-4FFC-9EF7-953C2FB096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B6FE4-8080-45CB-8990-355747BB77A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7BA96-3529-4734-9031-2ACCA84702EE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BA8C3-DAA5-49C4-AC46-F916A5C20CA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F44FD-96CF-461D-B1DF-3822DC4B4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3CFDA-D502-4829-8470-CB3028DF612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6C636-4530-487B-B959-51CD5EDF3F30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869A-C8E2-42BA-B663-61038AA9A36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6C288-A221-4946-BB23-335995A60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estridge Elementary Schoo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ject Summar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y of our students do not see the need for learning to write well – with words carefully selected for audience and purpose. This project-based unit will provide students with a variety of options to demonstrate the understanding of the analytical traits AND the importance of focusing on purpose audience firs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ssential Ques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 writ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writers influence their wor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Unit Question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factors influence people to writ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can writers impact/influence/effect the reader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tent Question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, when writing, must we address purpose and audience firs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can the analytical traits help me as a writer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9:45:15Z</dcterms:created>
  <dc:creator>Linda Vanderford</dc:creator>
  <dc:description/>
  <dc:language>en-US</dc:language>
  <cp:lastModifiedBy>Linda Vanderford</cp:lastModifiedBy>
  <dcterms:modified xsi:type="dcterms:W3CDTF">2010-08-03T19:59:10Z</dcterms:modified>
  <cp:revision>2</cp:revision>
  <dc:subject/>
  <dc:title>Westridge Elementary School</dc:title>
</cp:coreProperties>
</file>